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"/>
          <p:cNvGraphicFramePr/>
          <p:nvPr/>
        </p:nvGraphicFramePr>
        <p:xfrm>
          <a:off x="533520" y="304920"/>
          <a:ext cx="5876640" cy="77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5876640" cy="77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55627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00" y="8597880"/>
            <a:ext cx="6118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13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40" y="875016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15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240" y="875016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17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-228600" y="228600"/>
          <a:ext cx="8153280" cy="906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228600"/>
                    <a:ext cx="8153280" cy="906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07000" y="46188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11240" y="60948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11240" y="91440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5440" y="129528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25440" y="167652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2800" y="2436840"/>
            <a:ext cx="6148080" cy="29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 FUNCTION    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44560" y="51814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6480" y="549108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61120" y="671040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9560" y="8018640"/>
            <a:ext cx="609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7520" y="8458200"/>
            <a:ext cx="6235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7520" y="5410080"/>
            <a:ext cx="622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240" y="861048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19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240" y="87501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21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240" y="87501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23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00520" y="37944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3920" y="243828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- TRAVEL ADVANCE  FUNCTION       BLOCK NUMBER______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DUE                    LAST         U  ORDER   VOUCHER         RECL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DATE  EOR  APC   ODC   NAME   SSN   C  NUMBER  NUMBER  AMOUNT  WR-OFF IBOP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49720" y="380844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2600" y="533232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2362320"/>
            <a:ext cx="0" cy="36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57913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240" y="859788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25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228600"/>
          <a:ext cx="7848720" cy="861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7848720" cy="86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382680" y="8763120"/>
            <a:ext cx="383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00160" y="2055960"/>
            <a:ext cx="62852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2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6480" y="3656160"/>
            <a:ext cx="6148080" cy="132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TRAVEL ADV FUNCTION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LAST     U  ORDER   VOUCHER           RECLS/     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YEAR   EOR  APC ODC NAME SSN C  NUMBER   NUMBER   AMOUNT  WR-OFF  IBOP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 _ ____  ___  ___ ___ ____ ___ _  ______   _______  ______  ___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0160" y="5103720"/>
            <a:ext cx="614808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6480" y="6558120"/>
            <a:ext cx="60796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7000" y="304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4572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7621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11430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15238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240" y="861048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27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399960" y="1057320"/>
          <a:ext cx="5791320" cy="696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057320"/>
                    <a:ext cx="5791320" cy="69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596880" y="8656560"/>
            <a:ext cx="565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40" y="861048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2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240" y="861048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31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9800" y="2443320"/>
            <a:ext cx="6285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 FUNCTION      BLOCK NUMBER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                     DOCUMENT            F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 EOR  APC   ODC       NUMBER             I    AMOUNT    NAME     FOREIG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RRENC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240" y="85215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33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9800" y="2443320"/>
            <a:ext cx="62852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BLOCK NUMBER______ 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              OBS/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___   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240" y="85215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35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0" y="861048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37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240" y="861048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3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00520" y="45576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11240" y="60948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11240" y="91440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25440" y="129528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25440" y="167652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840" y="2436840"/>
            <a:ext cx="6235560" cy="29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 FUNCTION                BLOCK NUMBER______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44560" y="51814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240" y="85215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41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0" y="861048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43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240" y="861048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45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9800" y="2443320"/>
            <a:ext cx="6285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 FUNCTION      BLOCK NUMBER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                     DOCUMENT            F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 EOR  APC   ODC       NUMBER             I    AMOUNT    NAME     FOREIG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RRENC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240" y="852156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47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00000" y="444600"/>
            <a:ext cx="4601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STALLATION BLOCK TICK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 USE OF THIS FORM, SEE AR 37-108; THE PROPONENT IS DF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1000" y="977760"/>
            <a:ext cx="6570720" cy="7475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NR     TYPE DOCUMENT          NUMBER OF DOCUMENTS            DATE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0            OMA-EXPENDITURE                34                    *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UND DISBURSEMENT JOURNAL                    OTHER  (                    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CCOUNT      DEBIT       CREDIT        ACCOUNT         DEBIT          CRE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21       $ 22,501.82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/A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$ 137,35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32       $ 24,35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0       $ 40,302.7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2       $  (122.00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20       $  4,001.3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          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OSTED TO AN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654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463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440" y="1447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440" y="1600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440" y="1905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440" y="54100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606680"/>
            <a:ext cx="0" cy="41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440" y="57150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911240"/>
            <a:ext cx="0" cy="34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54165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440" y="2133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440" y="2362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2440" y="26668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440" y="29718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440" y="3276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440" y="35812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440" y="3886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440" y="4191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440" y="44956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440" y="4800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440" y="5105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440" y="6019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440" y="66294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2440" y="7391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1400" y="8369280"/>
            <a:ext cx="368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A FORM 3974  1 NOV 72 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45720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11160" y="8686800"/>
            <a:ext cx="3334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1                                                                                 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9800" y="2443320"/>
            <a:ext cx="62852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BLOCK NUMBER______ 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              OBS/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553080" y="57913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240" y="85215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49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240" y="861048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51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240" y="861048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53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9800" y="2443320"/>
            <a:ext cx="6285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 FUNCTION      BLOCK NUMBER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                     DOCUMENT            F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 EOR  APC   ODC       NUMBER             I    AMOUNT    NAME     FOREIG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RRENC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240" y="85215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55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0520" y="45576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11240" y="60948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11240" y="91440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25440" y="129528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225440" y="167652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12840" y="2436840"/>
            <a:ext cx="6235560" cy="269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0000" y="548496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54640" y="6703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53080" y="8010360"/>
            <a:ext cx="609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04920" y="541656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1040" y="8458200"/>
            <a:ext cx="623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553080" y="541656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1040" y="5410080"/>
            <a:ext cx="623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240" y="861048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57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9240" y="861048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5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240" y="861048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61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37880" y="6089760"/>
            <a:ext cx="635364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 WITNESS WHEREOF, THE PARTIES HERETO HAVE EXECUTED THIS CONTRACT AS OF THE 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TERED ON THE FIRST PAGE HEREO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UNITED STATES OF AMERICA                      CONTRA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S/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WENDELL PURCHASE, LTC, INF  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SMITH BROTHERS BLDG &amp; SUPPLY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NAME OF CONTRACTO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PURCHASING &amp; CONTRACTING OFFICER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     /S/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OFFICIAL TITLE)                         (SIGNATU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PARTNER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TIT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STR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HE FULL NAME AND BUSINESS ADDRESS OF THE CONTRACTOR MUST BE INSERTED IN THE SPACE PROVIDE O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ACE OF THE FORM.  THE CONTRACTOR SHALL SIGN IN THE SPACE PROVIDED ABOVE WITH HIS USUAL SIGNATUR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YPEWRITE OR PRINT HIS NAME UNDER THE SIGNATUR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9600" y="8750160"/>
            <a:ext cx="6086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63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9800" y="2443320"/>
            <a:ext cx="6285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 FUNCTION      BLOCK NUMBER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                     DOCUMENT            F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 EOR  APC   ODC       NUMBER             I    AMOUNT    NAME     FOREIG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RRENC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240" y="852156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65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99800" y="2443320"/>
            <a:ext cx="62852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BLOCK NUMBER______ 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              OBS/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240" y="852156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67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1760" y="139680"/>
            <a:ext cx="658224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OU ARE IN THE BLOCK TOTAL FUNCTION                        SIC:   AV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*BTC  SRC  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                                 * TBO  ONL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      TYPE      C    JULIAN        TOTAL         PAY ST      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BER      ACTION     I     DATE        AMOUNT          ADSN     NUMBER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 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240" y="852156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3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9240" y="861048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6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240" y="861048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71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240" y="861048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73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131760" y="139680"/>
            <a:ext cx="658224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OU ARE IN THE BLOCK TOTAL FUNCTION                        SIC:   AV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*BTC  SRC  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                                 * TBO  ONL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      TYPE      C    JULIAN        TOTAL         PAY ST      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BER      ACTION     I     DATE        AMOUNT          ADSN     NUMBER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 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26708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1992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9240" y="8521560"/>
            <a:ext cx="621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1                                                                                    75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2" name=""/>
          <p:cNvGraphicFramePr/>
          <p:nvPr/>
        </p:nvGraphicFramePr>
        <p:xfrm>
          <a:off x="-152280" y="304920"/>
          <a:ext cx="7467480" cy="88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304920"/>
                    <a:ext cx="7467480" cy="88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9800" y="2443320"/>
            <a:ext cx="62852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-TBO FUNCTION          BLOCK NUMBER______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9240" y="852156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77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9800" y="2443320"/>
            <a:ext cx="6353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-TBO FUNCTION          BLOCK NUMBER______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240" y="852156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79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9440" y="2443320"/>
            <a:ext cx="6490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DOCUMENT     VOUCHER           #EMP       F 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NUMBER       NUMBER    AMOUNT  PAID  IBOP I   IEBOBS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*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80-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1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DPA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2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PA01CA6103348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_____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1664-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7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____  __  _____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*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2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DPA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1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PA01CA6103348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_____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824-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7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____  __  _____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525780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40" y="867420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5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9440" y="2443320"/>
            <a:ext cx="6490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    VOUCHER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    NUMBER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0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*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560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1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DPA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2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PA01CA6103364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300018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39872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7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____  __  _____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0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*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2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DPA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1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PA01CA6103348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300018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141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7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____  __  _____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240" y="867420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7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*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392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1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DPA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2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PA01CA6103364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_____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79104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7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____  __  _____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*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2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DPA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1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PA01CA6103364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_____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991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7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____  __  _____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240" y="8674200"/>
            <a:ext cx="615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55627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0" y="8597880"/>
            <a:ext cx="6183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11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10:01:06Z</dcterms:created>
  <dc:creator>Soldier Support Institute</dc:creator>
  <dc:description/>
  <dc:language>en-US</dc:language>
  <cp:lastModifiedBy>Administrator</cp:lastModifiedBy>
  <cp:lastPrinted>2001-01-11T18:15:05Z</cp:lastPrinted>
  <dcterms:modified xsi:type="dcterms:W3CDTF">2005-03-22T14:40:53Z</dcterms:modified>
  <cp:revision>84</cp:revision>
  <dc:subject/>
  <dc:title>BLOCK TOTAL RETURN</dc:title>
</cp:coreProperties>
</file>